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3F438-3BBF-4EC8-A7C6-18174A0E2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11FE-4342-4A62-B545-D12572D1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B5C14-5638-4926-893F-24F260AA6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D0752-FD5B-41E6-AF4C-10F4AE6C3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C6556-C338-48B5-953E-293FB8318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AB685-D454-40D9-AC83-F7E677F57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FE46A-0A15-4D7D-B2F3-D845F0D45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670E7-16AA-414E-ADAE-27709AD0C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BDA33-FF92-43C7-A4DA-66CB65E91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822D5-8DB8-47A7-8103-397998679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F9A4A-3F44-4B6F-8AC4-1AAE61F88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C64F0-7433-43E4-A922-15DF9A1E6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07AC2-C00F-4F5E-BAF2-C0ECAAE93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51660-5616-4FC1-AB62-0FE5020F4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FE0B7-8693-4B2A-815A-4C330D235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C6A3D-0386-44D0-A4B2-3B7632648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25F85-A4C7-4991-8B47-8CDA861B9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6D60-D52C-4986-AE99-DBF3252A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BEF46-6899-42F8-960F-00D7E810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D0678-D367-4432-87A0-3A7B5D22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6994D-ECE1-4828-89E6-813B9DE1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07DDF-5153-4DC1-AB43-B548884B7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BADF-6562-46E1-A13E-FA11C0A8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DB961-A018-4BBC-A7C8-EECB02175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1253-767C-4649-9945-2D08B2271F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4737-39F2-438A-AEF2-CE0251504D3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reative Writ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ugust 24, 201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ing Warm-up</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an in a cowboy hat walks into a saloon in a bad Western movie. He’s looking dangerous and mad. Tell what happens, creating a happ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MOIR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ds </a:t>
            </a:r>
            <a:r>
              <a:rPr b="0" i="1" lang="en-US" sz="2800" spc="-1" strike="noStrike">
                <a:solidFill>
                  <a:srgbClr val="003366"/>
                </a:solidFill>
                <a:latin typeface="Arial"/>
              </a:rPr>
              <a:t>memoir</a:t>
            </a:r>
            <a:r>
              <a:rPr b="0" lang="en-US" sz="2800" spc="-1" strike="noStrike">
                <a:solidFill>
                  <a:srgbClr val="003366"/>
                </a:solidFill>
                <a:latin typeface="Arial"/>
              </a:rPr>
              <a:t> and </a:t>
            </a:r>
            <a:r>
              <a:rPr b="0" i="1" lang="en-US" sz="2800" spc="-1" strike="noStrike">
                <a:solidFill>
                  <a:srgbClr val="003366"/>
                </a:solidFill>
                <a:latin typeface="Arial"/>
              </a:rPr>
              <a:t>memory</a:t>
            </a:r>
            <a:r>
              <a:rPr b="0" lang="en-US" sz="2800" spc="-1" strike="noStrike">
                <a:solidFill>
                  <a:srgbClr val="003366"/>
                </a:solidFill>
                <a:latin typeface="Arial"/>
              </a:rPr>
              <a:t> come from the same root word.  However, good memoirs explore and reflect on a central theme or question.  They invite readers to explore and reflect with the narrator to try to </a:t>
            </a:r>
            <a:r>
              <a:rPr b="0" lang="en-US" sz="2800" spc="-1" strike="noStrike" u="sng">
                <a:solidFill>
                  <a:srgbClr val="003366"/>
                </a:solidFill>
                <a:uFillTx/>
                <a:latin typeface="Arial"/>
              </a:rPr>
              <a:t>unravel the deeper significance of the recounted even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MOIR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tion:  Sets the sce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ption of event/plo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ion of the signific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ution of the ev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clusion:  What the writer learn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DIALOGUE</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ow the characters to reveal key details about themselves through dialogue rather than your constant narration.  Use dialogue occasionally to reveal themes and ideas that are key to understanding your piec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dialogue to further the story:  Anytime you use dialogue, the story should move forward.  Dialogues between characters are key moments that should change the flow of the story in an important wa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rite the way your characters speak:  People often don’t speak in proper English, or in full thought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im the extra words:  In real dialogue, people often say more than they need to say.  You can trim out the unnecessary detail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dentify who is talking:  The readers should know who is talking, so make sure your use dialogue tags.</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 careful not to overuse dialogue.</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y</a:t>
            </a:r>
            <a:endParaRPr b="1" lang="en-US" sz="3600" spc="-1" strike="noStrike">
              <a:solidFill>
                <a:srgbClr val="006666"/>
              </a:solidFill>
              <a:latin typeface="Arial"/>
            </a:endParaRPr>
          </a:p>
        </p:txBody>
      </p:sp>
      <p:sp>
        <p:nvSpPr>
          <p:cNvPr id="10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A Hole in My Life </a:t>
            </a:r>
            <a:r>
              <a:rPr b="0" lang="en-US" sz="2800" spc="-1" strike="noStrike">
                <a:solidFill>
                  <a:srgbClr val="003366"/>
                </a:solidFill>
                <a:latin typeface="Arial"/>
              </a:rPr>
              <a:t>by Jack Gant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ment</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orkshe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8:07:15Z</dcterms:created>
  <dc:creator>Julie Hawker</dc:creator>
  <dc:description/>
  <dc:language>en-US</dc:language>
  <cp:lastModifiedBy>Angie McCall</cp:lastModifiedBy>
  <dcterms:modified xsi:type="dcterms:W3CDTF">2011-08-24T14:45:30Z</dcterms:modified>
  <cp:revision>8</cp:revision>
  <dc:subject/>
  <dc:title>MEMOIRS</dc:title>
</cp:coreProperties>
</file>